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A2E6-969A-45A8-84B1-2630D6A7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24A6-29D0-4708-9A25-E00A3263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C6C7-4ADC-409E-8DF1-45EB80AD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374-4CEC-4F35-826E-8D9B5234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9860-9D2B-423D-9FA5-0B0D5DDC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690B-D3D7-4ECA-A949-95C0B27E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96A9-0D04-48DB-8DC2-0B115B99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F161-49C8-4AA1-9B7E-D0EC1E42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065F-3BC4-4DBF-B199-08EFFEEF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A4F1-B74D-4462-BE00-61040576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940E-73FE-45C0-ACD0-C7A921FD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1C41-CD1B-44A1-BF3C-A81C61A6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F285-1C7D-4398-931B-97E23A65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3CDE-CE4F-4DC5-9BC5-CC8AE01D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BAB5-B6DE-4C87-8E9C-E4C4C3AF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392F-1EC3-43F9-986B-31A3D125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28E2-8A69-47D6-A8CC-9F329941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B81-E93F-49AF-B914-697309B5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AE8-50E4-42B2-B3EE-46DCD7B8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D98-1432-4165-903F-3E62EF9D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426D-3AC4-4EE6-A415-0D159318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385F-FC02-4C5A-8E90-378DC68C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1D02-84B6-48F3-877C-FC53CF21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DFA-F7C0-4A01-8762-808E58DE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6EC7-ADDD-424E-A68F-7D51E5BA55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416E-6E9F-4C4D-A6ED-1C5FD4B66F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enchantedlearning.com/subjects/astronomy/moon/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Planet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4653000"/>
            <a:ext cx="2209680" cy="2205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planet from the su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planet in our Solar System that is known to support lif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,756 km in diame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400800" y="228600"/>
            <a:ext cx="1368360" cy="1600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447920" y="152280"/>
            <a:ext cx="1523880" cy="1427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8319960" y="0"/>
            <a:ext cx="824040" cy="838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02312E-006 C 0.02205 0.29826 0.0441 0.59653 -0.00643 0.74196 C -0.05695 0.88717 -0.18507 0.86335 -0.3033 0.87098 C -0.42153 0.87861 -0.64774 0.80208 -0.71597 0.78844 E">
                                      <p:cBhvr>
                                        <p:cTn id="2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560760" y="2419200"/>
            <a:ext cx="2230560" cy="2225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arth has on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moon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on may have once been a part of the Earth; it may have been broken off the Earth during a catastrophic collision of a huge body with the Earth billions of years ag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day = 23.93 hou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year = 365.26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924680" y="5867280"/>
            <a:ext cx="763560" cy="776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-0.00208 C 0.00799 -0.12162 0.11389 -0.57803 0.04341 -0.7193 C -0.02708 -0.86081 -0.28489 -0.83584 -0.4217 -0.8504 C -0.5585 -0.8652 -0.7026 -0.91098 -0.77725 -0.80832 C -0.85191 -0.70566 -0.88333 -0.3711 -0.86927 -0.23329 C -0.8552 -0.09503 -0.8158 -0.02243 -0.69323 0.02035 C -0.57066 0.06359 -0.24913 0.02914 -0.13368 0.02497 C -0.01823 0.02058 -0.02812 0.00162 -0.00034 -0.00416 E">
                                      <p:cBhvr>
                                        <p:cTn id="43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arth's rotation is slowing down very slightly over time, about one second every 10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arth orbits, on average, 149,600,000 km from the Sun. (1 A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mperature on Earth ranges from between -88°C to 58°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562720" y="5029200"/>
            <a:ext cx="776160" cy="1563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2422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arth's atmosphere is a thin layer of gases that surrounds the Earth. It is composed of 78% nitrogen, 21% oxygen, 0.9% argon, 0.03% carbon dioxide, and trace amounts of other gas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2.83237E-006 C 0.03385 0.22566 0.06787 0.45156 0.19062 0.56439 C 0.31336 0.67722 0.64565 0.6578 0.73662 0.67653 E">
                                      <p:cBhvr>
                                        <p:cTn id="62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urth from the s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Most Earth-like; dry, rocky, mostly covered with iron-rich du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mosphe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Very thin atmosphere consisting of  95% carbon dioxide, 3% nitrogen, and 1.6% argon (no oxyge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1523880" cy="1425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1241280" cy="1447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560760" y="2419200"/>
            <a:ext cx="2022480" cy="2017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me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6790 k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tance from Su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227.9 million km (1.524 A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erature ran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High of 20ºC and low of -140º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y leng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1.03 Earth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ear leng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687 Earth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917640" cy="920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88889E-006 3.00578E-006 C 0.06615 -0.11838 0.06319 -0.54335 -0.01424 -0.68509 C -0.09167 -0.82636 -0.32795 -0.83422 -0.46493 -0.84971 C -0.60191 -0.86543 -0.76684 -0.89989 -0.83646 -0.77804 C -0.90608 -0.65619 -0.9533 -0.25249 -0.88247 -0.11838 C -0.81163 0.01549 -0.55868 0.00624 -0.41111 0.0252 C -0.26372 0.04416 -0.06615 0.11838 3.88889E-006 3.00578E-006 Z">
                                      <p:cBhvr>
                                        <p:cTn id="96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Two tiny moons called Phobos and Deim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orth and south poles of Mars are covered by ice caps composed of frozen carbon dioxide and w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rface of Mars shows much evidence of the effects of ancient waterways upon the landscape; there are ancient, dry rivers and lak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1371600" cy="1282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s is home to an extinct volcano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lympus M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hat is 27 km tall and 520 km across.  Wow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unt Everest is only 8 850 m tal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05520" y="4114800"/>
            <a:ext cx="3314520" cy="2265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62120" y="3809880"/>
            <a:ext cx="4100400" cy="2757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8:44:29Z</dcterms:created>
  <dc:creator>Teacher</dc:creator>
  <dc:description/>
  <dc:language>en-US</dc:language>
  <cp:lastModifiedBy>Teacher</cp:lastModifiedBy>
  <dcterms:modified xsi:type="dcterms:W3CDTF">2006-02-06T15:50:48Z</dcterms:modified>
  <cp:revision>22</cp:revision>
  <dc:subject/>
  <dc:title>Slide 1</dc:title>
</cp:coreProperties>
</file>